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638-FB89-4568-A175-743C8516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265-B5BB-47C9-A4AD-413F619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DC7-2F3F-45AE-B8C8-8803A533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1EC-FE92-42BF-87C6-2597CAE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975-C79C-4E42-9BAD-A3D5B5BA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B8A5-3808-486F-8B15-25714349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8AAF-B01E-4A48-93D7-D72BE078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928-FEBE-4647-BB5B-77146F64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0B75-FD6C-40F6-9268-B66C8A77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C883-797A-4ABC-BDC1-467EA869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22D-22B7-42C4-BA86-2EEC889F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046-F411-4CFE-A849-4E253894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7946-175E-4046-AB25-AB6F1CC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A6EE-3E33-486C-8DEA-5E2176F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5401-AC3C-45F9-B6AA-F8457FA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BA81-3D4B-457C-8261-0C57468F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23F2-946D-47BA-961C-F4FFF6E7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C74-7D80-4662-B73F-F574BD56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243-5B4D-4770-96A7-E532CE8A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158-C39C-4C15-8F85-B19EB570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7C5-DBCB-4B9B-9397-61C7DE4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10B-B494-4683-A8E4-DE09B7A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23E-92B9-4529-BE9A-2FC35BB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3C9-75C1-4524-AFEE-0D8FB0AE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FFA-5804-4587-8C35-D8DA5E8F5C4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BA3-7F55-4132-9074-F2BD73489CF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12000" y="3500280"/>
            <a:ext cx="2952720" cy="27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Verdana"/>
              </a:rPr>
              <a:t>Выполнил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Журавлёва Ан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Пунегова Ири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Пелина Юли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Шарапова Наталь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Verdana"/>
              </a:rPr>
              <a:t>Проверил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Габова М.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4" name="Picture 5" descr="C:\Users\1\Desktop\графика Настя\4.jpg"/>
          <p:cNvPicPr/>
          <p:nvPr/>
        </p:nvPicPr>
        <p:blipFill>
          <a:blip r:embed="rId1"/>
          <a:stretch/>
        </p:blipFill>
        <p:spPr>
          <a:xfrm>
            <a:off x="0" y="0"/>
            <a:ext cx="2428920" cy="17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1\Desktop\графика Настя\3.jpg"/>
          <p:cNvPicPr/>
          <p:nvPr/>
        </p:nvPicPr>
        <p:blipFill>
          <a:blip r:embed="rId2"/>
          <a:stretch/>
        </p:blipFill>
        <p:spPr>
          <a:xfrm>
            <a:off x="539640" y="3573360"/>
            <a:ext cx="2376720" cy="306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1\Desktop\графика Настя\2.jpg"/>
          <p:cNvPicPr/>
          <p:nvPr/>
        </p:nvPicPr>
        <p:blipFill>
          <a:blip r:embed="rId3"/>
          <a:stretch/>
        </p:blipFill>
        <p:spPr>
          <a:xfrm>
            <a:off x="6929280" y="0"/>
            <a:ext cx="2214720" cy="2000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2.Создание графических изображений с опорой на образе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полный образе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аль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опирова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Обведение по лин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частичный образе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Точ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штриховой лин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клетка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 осью симмет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осям координа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строение изображения на плёнке «Геовизора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астичный образец (по клеткам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орисовывание недостающих дета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033800" cy="53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астичный образец ( с осью симметрии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554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4105080" cy="554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3. Построение изображений по словесной инструкци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Verdana"/>
              </a:rPr>
              <a:t>Графические дикта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На нелинованной бумаг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На бумаге в клет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 памя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Verdana"/>
              </a:rPr>
              <a:t>Построение изображ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От ру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 линей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 помощью циркул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Графические диктан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8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4. Создание изображений по замысл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строение планов группы, комна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строение чертежей постро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Verdana"/>
              </a:rPr>
              <a:t>Изображение строи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1.на глаз, от ру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2.объёмные объекты с помощью обведения детал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3.с использованием измер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писок литературы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аврина С.Е., Кутявина Н.Л., Топоркова И.Г Рабочая тетрадь. Готовим руку к письму. – М.: Издательство «Росмэн – Пресс,2004.-80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ванец М.М Волшебные фигуры: развивающие занятия для малышей – СПб.: Издательский Дом «Литера»,2007.- 32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упенчук О И «Готовим руку к письму: рисуем по клеткам.- СПб»2006 – 64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ушельницкая О.И., Третьякова А. Н. Вправо – влево, вверх – вниз: Развитие пространственного восприятия у детей 6-8 лет. – М.:ТЦ Сфера,2004. – 80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овикова Е.В Как подготовить руку ребёнка к письму. Комплекс упражнений для тренинга мышц рук у детей. – М.: «Гном – Пресс», 2000 – 40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1280" y="549360"/>
            <a:ext cx="7921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Цель проекта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– познакомить студентов со способами кодирования и умением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именять их на практике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Задачи проекта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зучение и анализ литературы по данной тем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ставление плана работы по реализации данной проблем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зучение особенностей графических навыков у старших дошкольников и составление диагностики по данной тем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азработка рекомендаций для родителей по развитию графических навыков детей старшего дошкольного возраста в форме букле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ставление портфолио по данной тем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Кодирование: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о процесс с помощью которого в индивидуальном опыте отражается окружающий мир с помощью системы символов, условных, сокращенных обозначений и названий, применяемых для передачи, обработки и хранений информаци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цесс представлений информации в виде код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реход от одной формы представления информации к другой, более удобной для хранения передачи или обработк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пользование совокупности символов по строго определённым правила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Значение кодирования графической информаци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звитие познавательных психических процессов(внимание, память , мышление, воображение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звитие мышц, координаций движений и тонкой моторики ру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нтеллектуальное развитие ребен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спешная подготовка ребёнка к обучению в школ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-17136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Кодирования графической информации:</a:t>
            </a:r>
            <a:br>
              <a:rPr sz="36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.осуществление основных графических операц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4038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Построение от ру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Соединение точек линия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Штриховка в заданном направлен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«дорожек» разной конфигурац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композиций из линий различных типов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композиций из различных фигур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9280" y="2491920"/>
            <a:ext cx="40384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Построение с использованием чертежно – графических инструмент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Соединение точек линия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линий с помощью линейк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окружностей, дуг с помощью циркул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628640"/>
            <a:ext cx="1008000" cy="936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1628640"/>
            <a:ext cx="1079640" cy="935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859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едини по точк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259920"/>
            <a:ext cx="417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Штриховка в заданном направлении, построение дороже разной конфигурац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76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62480" cy="489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роение композиций из линий различных тип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0384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роение линий с помощью линей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960720" cy="54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1:29:26Z</dcterms:created>
  <dc:creator>Наташа</dc:creator>
  <dc:description/>
  <dc:language>en-US</dc:language>
  <cp:lastModifiedBy>Администратор</cp:lastModifiedBy>
  <dcterms:modified xsi:type="dcterms:W3CDTF">2010-03-09T10:01:26Z</dcterms:modified>
  <cp:revision>16</cp:revision>
  <dc:subject/>
  <dc:title>Слайд 1</dc:title>
</cp:coreProperties>
</file>